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1343460"/>
        <c:axId val="93433751"/>
      </c:barChart>
      <c:catAx>
        <c:axId val="7134346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3433751"/>
        <c:crosses val="autoZero"/>
        <c:auto val="1"/>
        <c:lblAlgn val="ctr"/>
        <c:lblOffset val="100"/>
        <c:noMultiLvlLbl val="0"/>
      </c:catAx>
      <c:valAx>
        <c:axId val="9343375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134346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DBBF1-1421-4A11-AA3C-DEBA76B0C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7E94-29BB-45BB-BF1D-2250E101E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4EC9B-CDCA-4B52-A43E-775A8AE6A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F0E1D-EA30-4C85-AF64-DEBE97366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A4499-CAE2-435A-B25C-683655801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AFF81-78C1-49F9-8F71-45F15CAAD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30418-8609-4E01-B251-EE1D6E3D1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EE2D9-F6BE-4F42-B22D-A3A845190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153C5-304F-491D-A67E-495F341B9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51A6F-7CB0-4FE4-9C83-604EBD803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E5CF9-D352-4870-BE32-0B32109D4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BAC9F-6B08-4437-A098-4EE342D0A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ED1E0-1FE6-4081-83F1-4B0FA45A3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8B1C2-6F8A-4632-872B-E0868490C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FAE14-D963-462A-B395-9D39298FA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512AE-47C8-484C-8E41-6B3D8B6BF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27FC7-A7C4-4261-BF73-9207BC3A1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F342F-846E-4BC0-8AF6-C0982C941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823B9-1391-4FF0-8905-C523DDB1C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DCE77-01CF-4031-A704-CA13A879A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3E933-9064-4B72-B5AD-DD3608021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4B7FC-3DCB-4C13-8659-E7CE36C62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45F27-7D4B-421F-9A47-C85B70929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53545-0F53-4A79-91FB-A24BC07B4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817024-138A-4837-BAA8-1CB8E22BFAB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564731-4C5F-482C-9601-E4AC3A4E9DE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